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A9A-D5D8-4712-AA53-4714EA41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244-E5F4-42CA-B6F9-6140E887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220-4ACA-4007-A111-110B1B99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692-0E4B-47F7-93EC-E547D01B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9D2A-4620-4AA0-B8BD-D0306037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6055-533E-4CBA-8945-B324AC0B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3CAD-6842-448D-85BE-6CFA7222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17C6-EFD2-46AF-A6AE-25EAC51B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989A-2D73-43A7-9857-FCD9D859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8DAA-754E-4836-8E60-E9852F12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AC2B-0995-4981-B018-70192C4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64C-A340-499B-A8F7-D85CFD9C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68DF-1005-415E-B992-2DC92C1D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4A67-59C9-4FD7-A7A4-9122FD8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9FF5-7F2A-4EB0-B1A6-33B9217F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AC74-1B34-4530-8C68-6D1679A1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BE6A-7E5B-4D32-8681-8E4D47EC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25B7-D588-4B2D-A8EB-36C0C0F1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A1C8-63FD-482A-B062-7EDF4740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B626-D947-4FC0-9731-3353980B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A5C1-4A71-4E66-89F4-41C1B2D9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7DCF-B024-4798-B5AB-D1797D3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26A-9B13-4344-A9F8-47ED1134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FFE1-B744-416D-BE33-BE128C4C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50FE-71B7-46E8-A43C-893A0FC2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9900-247B-409E-B6A1-37585C4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1DFF-A654-4E42-81E8-945287D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C56B-2D56-4B01-982C-963AA1F2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47F3-4D76-4EF3-A952-5D4BBB1E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E6EF-1D20-498E-8D32-8E7873C7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B697-5FF3-4C03-B8C3-063E09E1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EFA4-8E6D-42E2-B694-9AF2F938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0A98-EA4A-45B5-9A19-87E6D636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927-FE9B-4623-AB67-826E93A1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22C0-7544-4645-B52C-E5222EB8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8A014-E649-4ED7-A567-830951A5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FE8EA-D22A-4774-8F85-CFE4B0C3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7BD0-4308-4666-BC58-49117287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AA77-24DF-478A-979E-EBC25F63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607E-EC65-4122-AF0B-E7FC816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6F83-5449-472E-B76E-7FBC89EF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4DC43-499A-4BE5-8252-33EE9A42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17A1-FDBB-4ECF-9194-8E6978A5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C034-A057-482B-A015-ECB04FC5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443-358E-4721-AE3C-7BBEE32E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4C527-16BF-4F0D-8719-4B0F9096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9B79E-8F71-4EFA-9AE1-E87ADD78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AB366-C5F9-4D3B-B94D-5A617E9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F508-A402-43C7-8A8A-BA6599A5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00680-9DFA-4FDB-913F-5D826E93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8E646-A9C1-4BA8-820F-C3F2C7CF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174D7-805C-4E4A-83EF-D0FCAF3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045DE-5FF4-4902-848E-C206BA97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1BBC4-29F6-4856-BC98-553F4619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AA951-7AA4-413F-8277-A24C21C1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C59-D778-4B24-A169-906996C8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769D-1EDD-44BB-A3F4-3A2B5980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382-E3B3-4D32-82EF-F7D76EB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099-0A99-406F-B55D-6D0AFC6A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DFB-017B-46CC-8003-07BE0791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1D6E-32C6-4F6B-862B-3F2F7422390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AF23-63E1-47BA-955B-B17CFDEB144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C895-E84E-4C82-83F7-B3335E53014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EC46-4FAD-4B6B-8F38-8D72DDFA112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BBB9-88C1-4D55-9905-37E6BACF307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2865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0" y="1071720"/>
            <a:ext cx="40384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вы идете группой, то расстояние между людьми  должно быть не меньше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-6 </a:t>
            </a: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етр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юкзак повесьте на одно плечо, а еще лучше - волоките на веревке в 2-3 метрах сзад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6" descr="вод"/>
          <p:cNvPicPr/>
          <p:nvPr/>
        </p:nvPicPr>
        <p:blipFill>
          <a:blip r:embed="rId1"/>
          <a:stretch/>
        </p:blipFill>
        <p:spPr>
          <a:xfrm>
            <a:off x="5481720" y="1571760"/>
            <a:ext cx="366228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0" y="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post-20-1108332791"/>
          <p:cNvPicPr/>
          <p:nvPr/>
        </p:nvPicPr>
        <p:blipFill>
          <a:blip r:embed="rId1"/>
          <a:stretch/>
        </p:blipFill>
        <p:spPr>
          <a:xfrm>
            <a:off x="0" y="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img-42774"/>
          <p:cNvPicPr/>
          <p:nvPr/>
        </p:nvPicPr>
        <p:blipFill>
          <a:blip r:embed="rId1"/>
          <a:stretch/>
        </p:blipFill>
        <p:spPr>
          <a:xfrm>
            <a:off x="0" y="0"/>
            <a:ext cx="9144000" cy="478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4360" y="134460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торожно спускайтесь с берега: лед может неплотно соединяться с сушей; могут быть трещины; подо льдом может быть возду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выходите на темные участки льда - они быстрее прогреваются на солнце и, естественно, быстрее тают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9" descr="picture31465242"/>
          <p:cNvPicPr/>
          <p:nvPr/>
        </p:nvPicPr>
        <p:blipFill>
          <a:blip r:embed="rId1"/>
          <a:stretch/>
        </p:blipFill>
        <p:spPr>
          <a:xfrm>
            <a:off x="4929120" y="1428840"/>
            <a:ext cx="421488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421965_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2"/>
          <p:cNvSpPr/>
          <p:nvPr/>
        </p:nvSpPr>
        <p:spPr>
          <a:xfrm>
            <a:off x="714240" y="1428840"/>
            <a:ext cx="45720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зопасным для человека считается лед толщиною не менее 10 сантиметров в пресной воде и 15 сантиметров в соле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очность льда можно определить : лед голубого цвета – прочный, белого – прочность его в 2 раза меньше. Серый, матово-белый или с желтоватым оттенком лед обычно ноздреватый и пористый ненадежен. Такой лед обрушивается без предупреждающего потрески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2" descr="http://www.serpuhov.ru/spaw/images/index/led_nara.jpg"/>
          <p:cNvPicPr/>
          <p:nvPr/>
        </p:nvPicPr>
        <p:blipFill>
          <a:blip r:embed="rId2"/>
          <a:stretch/>
        </p:blipFill>
        <p:spPr>
          <a:xfrm>
            <a:off x="5143680" y="1500120"/>
            <a:ext cx="378612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WordArt 6" descr=""/>
          <p:cNvPicPr/>
          <p:nvPr/>
        </p:nvPicPr>
        <p:blipFill>
          <a:blip r:embed="rId1"/>
          <a:stretch/>
        </p:blipFill>
        <p:spPr>
          <a:xfrm>
            <a:off x="450720" y="311040"/>
            <a:ext cx="7278840" cy="1189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Одиночный пешеход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не мен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5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Одиночный пешеход с грузом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не мен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7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Группа людей (расстояние между людьми не менее 6м)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не мен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12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Автобус (без пассажиров)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не мен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40-60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Трактор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-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более </a:t>
            </a:r>
            <a:r>
              <a:rPr b="1" lang="en-US" sz="2600" spc="-1" strike="noStrike">
                <a:solidFill>
                  <a:srgbClr val="800000"/>
                </a:solidFill>
                <a:latin typeface="Trebuchet MS"/>
              </a:rPr>
              <a:t>60 </a:t>
            </a:r>
            <a:r>
              <a:rPr b="1" lang="ru-RU" sz="2600" spc="-1" strike="noStrike">
                <a:solidFill>
                  <a:srgbClr val="800000"/>
                </a:solidFill>
                <a:latin typeface="Trebuchet MS"/>
              </a:rPr>
              <a:t>с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-25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494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642600"/>
            <a:ext cx="403848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Опасно ходить по льду, покрытому снегом (снег, выпавший на только что образовавшийся лед, помимо того, что маскирует полыньи, замедляет рост ледяного покрова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Лед более тонок на течении, особенно быстром, на глубоких и открытых для ветра местах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над тенистым и торфяным дном;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у болотистых берегов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в местах выхода подводных ключей;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под мостами; 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в узких протоках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rebuchet MS"/>
              </a:rPr>
              <a:t>вблизи мест сброса в водоемы теплых и горячих вод промышленных и коммунальных предприятий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6" descr="17007"/>
          <p:cNvPicPr/>
          <p:nvPr/>
        </p:nvPicPr>
        <p:blipFill>
          <a:blip r:embed="rId1"/>
          <a:stretch/>
        </p:blipFill>
        <p:spPr>
          <a:xfrm>
            <a:off x="5219640" y="6206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3313"/>
          <p:cNvPicPr/>
          <p:nvPr/>
        </p:nvPicPr>
        <p:blipFill>
          <a:blip r:embed="rId2"/>
          <a:stretch/>
        </p:blipFill>
        <p:spPr>
          <a:xfrm>
            <a:off x="7164360" y="836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5158"/>
          <p:cNvPicPr/>
          <p:nvPr/>
        </p:nvPicPr>
        <p:blipFill>
          <a:blip r:embed="rId3"/>
          <a:stretch/>
        </p:blipFill>
        <p:spPr>
          <a:xfrm>
            <a:off x="5003640" y="242100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981"/>
          <p:cNvPicPr/>
          <p:nvPr/>
        </p:nvPicPr>
        <p:blipFill>
          <a:blip r:embed="rId4"/>
          <a:stretch/>
        </p:blipFill>
        <p:spPr>
          <a:xfrm>
            <a:off x="7020000" y="2852640"/>
            <a:ext cx="1528560" cy="152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17"/>
          <p:cNvPicPr/>
          <p:nvPr/>
        </p:nvPicPr>
        <p:blipFill>
          <a:blip r:embed="rId5"/>
          <a:stretch/>
        </p:blipFill>
        <p:spPr>
          <a:xfrm>
            <a:off x="5508720" y="4508640"/>
            <a:ext cx="280836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-36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 местах, где растет камыш, тростник и другие водные растения лед более тонкий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ед в нижнем бьефе плотины, где даже в сильные морозы кратковременные попуски воды из водохранилища способны источить лед и образовать в нем опасные промоины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сли температура воздуха выше 0 градусов держится более трех дней, то прочность льда снижается на 25%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9"/>
          <p:cNvPicPr/>
          <p:nvPr/>
        </p:nvPicPr>
        <p:blipFill>
          <a:blip r:embed="rId1"/>
          <a:stretch/>
        </p:blipFill>
        <p:spPr>
          <a:xfrm>
            <a:off x="4786200" y="549360"/>
            <a:ext cx="3857760" cy="2522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1223844"/>
          <p:cNvPicPr/>
          <p:nvPr/>
        </p:nvPicPr>
        <p:blipFill>
          <a:blip r:embed="rId2"/>
          <a:stretch/>
        </p:blipFill>
        <p:spPr>
          <a:xfrm>
            <a:off x="4859280" y="3284640"/>
            <a:ext cx="3765600" cy="2824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untitledкенг"/>
          <p:cNvPicPr/>
          <p:nvPr/>
        </p:nvPicPr>
        <p:blipFill>
          <a:blip r:embed="rId1"/>
          <a:stretch/>
        </p:blipFill>
        <p:spPr>
          <a:xfrm>
            <a:off x="428760" y="571680"/>
            <a:ext cx="7599240" cy="4560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1231508723_3"/>
          <p:cNvPicPr/>
          <p:nvPr/>
        </p:nvPicPr>
        <p:blipFill>
          <a:blip r:embed="rId1"/>
          <a:stretch/>
        </p:blipFill>
        <p:spPr>
          <a:xfrm>
            <a:off x="0" y="0"/>
            <a:ext cx="85010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user</cp:lastModifiedBy>
  <dcterms:modified xsi:type="dcterms:W3CDTF">2019-03-23T14:44:36Z</dcterms:modified>
  <cp:revision>71</cp:revision>
  <dc:subject/>
  <dc:title>Слайд 1</dc:title>
</cp:coreProperties>
</file>